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34CE-23DD-4F19-81AE-F4DAE26D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14F3-0CD5-4628-8D20-D42992F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1A3F-AD3A-4032-8B40-C3042E32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296E-1E36-4A69-B0DC-FB33E3D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53E-EBB5-447A-9367-02B13371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60C9-08D4-4D28-BD24-BDF4393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939-9077-4326-9010-4B731336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7EA-DD48-47A2-B858-83EC1B20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EDE-D4C4-4C87-8001-C8C9F6FD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11F1-23C4-48CE-88E2-ABA5715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07BF-ABF4-443C-A40A-3D37AF8D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8B2F-3277-4C26-A481-3A8F2AA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9AE8-5CC1-43E7-BDE7-31B167D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857C-8ABA-427D-8F52-A0E6B70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104D-2233-4873-8801-2B6D9B2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4343-6A96-4182-AA52-3D03B552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9958-DA4E-4C42-8575-C21D224C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A13E-E08B-4BAC-B5C9-1672552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A5FB-3511-4F8A-BA22-515E1DC2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AB3E-8DDF-43A9-89F2-2063672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0ADD-6687-473F-A328-2C5FF165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4332-AA9A-4030-80C8-2B62A6C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AEA6-0E1A-4164-9BA2-113CA5D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4F50-83DC-41E6-8EBF-9057F0A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F3D-094E-4DFE-87E5-D5C5C76A8C5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357-934E-44A3-AC9D-FDC82C320EA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00040"/>
            <a:ext cx="9577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276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881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Бог наш любов дарява, блаженство, щастие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й радост, мир дарява нам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вежда ни във рай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621720"/>
            <a:ext cx="1008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Той е наш Баща, 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ние сме Му ча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Бог-Любов ни прав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свят щастливи все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зпълва с благост, добро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нашето сърц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Светът е с скръб изпълнен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 страдание, болест, грях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о чрез любовта Бож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ак имаме успех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621720"/>
            <a:ext cx="1008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Той е наш Баща, 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ние сме Му ча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Бог-Любов ни прав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свят щастливи все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зпълва с благост, добро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нашето сърц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Кога се съберем ни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ъв златния Сион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ще славим таз чудна любов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ъс песни, в век веков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621720"/>
            <a:ext cx="1008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Той е наш Баща, 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е благ, ние сме Му чад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Бог-Любов ни прав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свят щастливи все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зпълва с благост, добро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нашето сърц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10T06:30:19Z</dcterms:modified>
  <cp:revision>211</cp:revision>
  <dc:subject/>
  <dc:title>Slide 1</dc:title>
</cp:coreProperties>
</file>